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612-38BC-4F49-A58A-0C2E18EF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643-E095-4021-B25B-AF9F974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C40-6C65-41E4-9725-253F132A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D7D-D014-4E15-A760-F8DAA13C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25F-71E0-4618-8B55-6B4BC76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FD2-94C8-447A-8F48-C78382BF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1BB-CE9A-4F16-B638-4ECE402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CD9-F536-4F92-8BBB-0F0F750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187-2A5F-4D47-A60B-E38B4B8C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9CB-3A05-4621-8025-2436443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E91-CEA2-4F8A-91BA-0B6F6A6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FBE-0B53-4FB2-A3A3-7C1778C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AF9-76DA-46BB-BD90-CF1ED2E5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  Clase 6nh 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0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el Paso 1 de la Unidad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español __________ a las doce y cuarenta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a las ocho. 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 ir a la fiesta? 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mirar el partido. (PREFER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___________ a casa a las cuatro. 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 __________ a trabajar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1200" y="1752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76840" y="129528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49220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244880" cy="146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010280" y="304920"/>
            <a:ext cx="17496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096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bé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4680" y="3352680"/>
            <a:ext cx="2076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í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lanz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1240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jar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4680" y="6019920"/>
            <a:ext cx="21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4800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623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562360" y="57150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2400" y="45720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á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3600" y="5638680"/>
            <a:ext cx="176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880" y="5410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4320" y="5486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905120" y="6058080"/>
            <a:ext cx="914400" cy="72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9560" y="6110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53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2320" y="2362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cor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0492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atra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576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lan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47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ba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3680" y="3809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Jonr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22400" y="55627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 basquetbol / E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cha de basque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53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5791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ro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33560" y="426672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ampe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uartos /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2736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667160" cy="27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124080" y="7621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Drib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Pas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Ences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09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Ti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3:58Z</dcterms:created>
  <dc:creator>Helen Zumaeta</dc:creator>
  <dc:description/>
  <dc:language>en-US</dc:language>
  <cp:lastModifiedBy>Helen Zumaeta</cp:lastModifiedBy>
  <dcterms:modified xsi:type="dcterms:W3CDTF">2013-01-31T22:04:08Z</dcterms:modified>
  <cp:revision>9</cp:revision>
  <dc:subject/>
  <dc:title>Me llamo __________ Clase 6nh/il La fecha es el 5 de mayo del 2011</dc:title>
</cp:coreProperties>
</file>